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1B34-A471-420D-A6A0-C4BD8E952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48A8-2FE0-42A0-B58F-69A82F703B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sm, industrialization (to get goods and ship goods), global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AC7-3085-4EF7-B49E-2C188F08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309-2062-43FA-B7F4-51717111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9AE-2EE6-47F2-80CD-46B7F772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3A7-DFDA-4703-B1C9-6B40BF93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6091-2ED1-413F-AD42-6D1C79DE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0546-59C8-4869-9120-462B8F71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B274-4EC3-49A2-9739-7E2D73C3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F34E-F391-4BDA-A199-42C29CE8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5343-B041-41E7-9AE0-72D458FD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5151-65FD-4105-81FC-B7C75CA1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ECE6-7DFA-4D63-B304-B3DAB7D3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136-9AD4-455C-8E4C-E6E991AE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B556-3BED-45CA-ADDC-8A0EF2D4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6740-4C2E-4DFC-8AEC-E2947337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20BE-82E7-4294-B70E-682B43E2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890B-5C2D-435C-8553-2CC32993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FCA7-91F8-459C-8424-F51BBF22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C02-C14B-484A-A059-058D5413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772-14C6-41C7-9B28-1A60C010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E12-675C-4404-915B-D0734CBA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3F6-F7C4-491F-B120-52D9D5C0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BD7-59AC-41E2-8A5B-68770A9F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B27-02E0-4081-9DC5-8F3379A3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5BA-D229-41A7-A955-577CBB37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93AD-E501-4ED9-9B99-9B5E1AA59E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C2B5-02FD-4626-9B9A-8AA1035767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ourworldindata.org/international-trad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merican Imperialism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anish American W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imperialism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o what were these articles like?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Picture 6" descr="maine"/>
          <p:cNvPicPr/>
          <p:nvPr/>
        </p:nvPicPr>
        <p:blipFill>
          <a:blip r:embed="rId1"/>
          <a:stretch/>
        </p:blipFill>
        <p:spPr>
          <a:xfrm>
            <a:off x="304920" y="4038480"/>
            <a:ext cx="4647960" cy="2562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arst’s paper’s article about the sinking of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Ma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8" descr="destroyed maine"/>
          <p:cNvPicPr/>
          <p:nvPr/>
        </p:nvPicPr>
        <p:blipFill>
          <a:blip r:embed="rId2"/>
          <a:stretch/>
        </p:blipFill>
        <p:spPr>
          <a:xfrm>
            <a:off x="4114800" y="1905120"/>
            <a:ext cx="457200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censed by the actions of the Spanish govern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US took action…to defend Cuba and its quest for liberty and freedom (in theor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American Congress decides to act ... they pass th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ller Amendment – stated the US had no “sovereignty, jurisdiction, or control” over Cub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16292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ar begi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rted in Philippi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ght with Emilio Aguinald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 quickly defeated the Spanish force … but stayed on in the Philippi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5" descr="manilla bay fight headline"/>
          <p:cNvPicPr/>
          <p:nvPr/>
        </p:nvPicPr>
        <p:blipFill>
          <a:blip r:embed="rId1"/>
          <a:stretch/>
        </p:blipFill>
        <p:spPr>
          <a:xfrm>
            <a:off x="4654440" y="914400"/>
            <a:ext cx="4489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omething is off about this pic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attle of San Juan Hill…Teddy Roosevelt and the Rough Rid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4" descr="TR and the rought riders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merican army was ill prepar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ol unifor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oiled me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mm…spoiled me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00 died in battle in Cuba…5000 died of dysentery, typhoid, malaria, yellow fever (unrelated to newspaper yellow fever) and food poiso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S navy and army were domina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ai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ve Cuba its independ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eded Puerto Rico, Pacific Islands, and the Philippines to the US for $200,000,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cuse me … there is something in the air thoug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lipinos fought against 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e year fight for independ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ilio Aguinaldo continued the f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ousands of lives were l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 until 1946 that the Philippines are given their independ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ericans were conflicted about what should happen thoug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5" descr="emilio aguinaldo"/>
          <p:cNvPicPr/>
          <p:nvPr/>
        </p:nvPicPr>
        <p:blipFill>
          <a:blip r:embed="rId1"/>
          <a:stretch/>
        </p:blipFill>
        <p:spPr>
          <a:xfrm>
            <a:off x="5908680" y="1447920"/>
            <a:ext cx="3235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ted States EXPAN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410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 adds Hawaii to its holdings and several other Pacific isla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een Liliuokalani tried to cast off the provisions set from her brother’s “Bayonet Constitution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w, to avoid any collision of armed forces and perhaps the loss of life, I do, under this protest, and impelled by said forces, yield my authority until such time as the government of the US shall undo the action of its representatives and reinstate me.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5" descr="liliuokalani"/>
          <p:cNvPicPr/>
          <p:nvPr/>
        </p:nvPicPr>
        <p:blipFill>
          <a:blip r:embed="rId1"/>
          <a:srcRect l="0" t="10170" r="0" b="8472"/>
          <a:stretch/>
        </p:blipFill>
        <p:spPr>
          <a:xfrm>
            <a:off x="5486400" y="1447920"/>
            <a:ext cx="3451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Picture 6" descr="map of imperialism"/>
          <p:cNvPicPr/>
          <p:nvPr/>
        </p:nvPicPr>
        <p:blipFill>
          <a:blip r:embed="rId1"/>
          <a:stretch/>
        </p:blipFill>
        <p:spPr>
          <a:xfrm>
            <a:off x="914400" y="1600200"/>
            <a:ext cx="75438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0720" y="23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 on the international St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191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 sent soldiers to several Central and Caribbean countries (Hondura, Guatamala, Panama, Dominican Republic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gineered separation of Panama from Colombia to advance Panama Ca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vernorship Philippines, Puerto Rico, major presence in Cuba (even today- Guantanamo Bay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ded Hawaii- Navy Bases and Dole Fru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nt Gunboat to Japan to open Trade (pre-civil Wa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ina- Sphere of Influence w/European pow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merica’s Place in the World-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et the Stag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roe Doctrine (1819)- Europe stay out of Americ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inental US- 1854- Current US bord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4’40- NO MORE FIGHT- Canada’s borders s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-Civil War- Southern designs to expand US and Slavery- ended w/Civil W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ior Frontiers- No more new 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ward’s Folly- Alaska—so wha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d, Resources and Marke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eping up w/the Joneses- Europe inAfrica/A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2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 Rol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240" y="9140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are the US’s responsibility/obligation when in charg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vilize? (educate? Values? Christianize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edom, Democracy? (set the road to independence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ropriate? (take the oil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otprint? (how large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tec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Iraq War- Imperialism? Self-Defense? American Exceptionalism? Business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17000" indent="-2034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ier 1- If you break it you own it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hat is Imperialism? Civilizer, Thief, Markets and Resources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ditions / Setting for Imperialis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un never sets on the British Empir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n this race (Anglo-Saxon) … the representative, let us hope, of the largest liberty, the purest Christianity, the highest civilization … will spread itself over the Earth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ustrialists turned to Africa, Asia, and Latin America for new customers and new sources of raw materials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7640" y="396720"/>
            <a:ext cx="3048120" cy="5546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15200" y="685440"/>
            <a:ext cx="1828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Race for global domin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re’s the U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2" descr="https://lh6.googleusercontent.com/7-vxYh66Yn2vHUVxBHlVwNFvYj5xzTDlo4GXGYZjN8XrsjD7Y6ege8juKv89GQAwFpySfvUSiH9ch2hQZgNxM3CFSeLJ6qMyWOgbGgEZ2aQ_lu716mCpONbKsVH2Hb1qUw"/>
          <p:cNvPicPr/>
          <p:nvPr/>
        </p:nvPicPr>
        <p:blipFill>
          <a:blip r:embed="rId1"/>
          <a:stretch/>
        </p:blipFill>
        <p:spPr>
          <a:xfrm>
            <a:off x="38160" y="-3240"/>
            <a:ext cx="727704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72200" cy="463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s://ourworldindata.org/international-trade</a:t>
            </a:r>
            <a:br>
              <a:rPr sz="1400"/>
            </a:b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76560" y="76320"/>
            <a:ext cx="3352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rkets, Resources and the growth of international tra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flat World Global trade zooms- interdepend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es the graph show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2" descr="World-Trade-over-5-centuries"/>
          <p:cNvPicPr/>
          <p:nvPr/>
        </p:nvPicPr>
        <p:blipFill>
          <a:blip r:embed="rId2"/>
          <a:stretch/>
        </p:blipFill>
        <p:spPr>
          <a:xfrm>
            <a:off x="11160" y="1087560"/>
            <a:ext cx="542448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ar of Choice or War of necessity? Conflict in Cuba grow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ain in New World- Little left of it’s original Colonies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became free in 1830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ba last country in W. Hemisphere w/Slave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ba freedom fighter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ain oppressively put down Cuban revo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terally starving!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’s the US interes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oes the US get involve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Lome let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nking of Ma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6" descr="headline-7"/>
          <p:cNvPicPr/>
          <p:nvPr/>
        </p:nvPicPr>
        <p:blipFill>
          <a:blip r:embed="rId1"/>
          <a:stretch/>
        </p:blipFill>
        <p:spPr>
          <a:xfrm>
            <a:off x="4184640" y="1219320"/>
            <a:ext cx="4959360" cy="5638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headline-6"/>
          <p:cNvPicPr/>
          <p:nvPr/>
        </p:nvPicPr>
        <p:blipFill>
          <a:blip r:embed="rId2"/>
          <a:srcRect l="0" t="0" r="0" b="34617"/>
          <a:stretch/>
        </p:blipFill>
        <p:spPr>
          <a:xfrm>
            <a:off x="0" y="2693880"/>
            <a:ext cx="403848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spapers’ role in the war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ss- fuels the Fla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lliam Randolph Hearst and Joseph Pulitzer were waging a newspaper circulation w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oking for the best stori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furnish the pictures and I’ll furnish the war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ellow journalis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ichard Outcalt –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e Yellow Ki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New York Journ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5" descr="yellow kid - richard oucalt's cartoon in NY Journal"/>
          <p:cNvPicPr/>
          <p:nvPr/>
        </p:nvPicPr>
        <p:blipFill>
          <a:blip r:embed="rId1"/>
          <a:stretch/>
        </p:blipFill>
        <p:spPr>
          <a:xfrm>
            <a:off x="5584680" y="1592280"/>
            <a:ext cx="3584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1:51:05Z</dcterms:created>
  <dc:creator>Darien Public Schools</dc:creator>
  <dc:description/>
  <dc:language>en-US</dc:language>
  <cp:lastModifiedBy>Balazs, Stephen</cp:lastModifiedBy>
  <dcterms:modified xsi:type="dcterms:W3CDTF">2017-03-13T14:10:41Z</dcterms:modified>
  <cp:revision>21</cp:revision>
  <dc:subject/>
  <dc:title>American Imperialism</dc:title>
</cp:coreProperties>
</file>